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click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85480" y="706320"/>
            <a:ext cx="4707000" cy="353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BA4911F-17A1-41C8-A1EF-18418D876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B32AB63-35CA-4356-BC3F-3CF677B29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C658FF8-0256-496D-8D73-24D68AD9C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BB53E9D-AE28-4D5D-B4D8-45016C17D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205BB05-FEE8-4925-BFC9-2B187C7D5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2D0-43BD-4DE6-BF6F-41081704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1688-F4C7-4A70-87C1-31825F36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DC2-97F3-438F-8569-52A8B9B5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49E-3A2F-49B7-B0DE-C760BCFD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CEE0-E7E4-4620-9181-AAC6AE7B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13DB-FF6B-4F63-A43C-517E4E92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88C8-1E9F-4E20-BAA8-F352F2EA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B7D1-A4F6-4576-902C-DDBCCDC9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FD3A-7888-4E92-9BDC-F28BE4F8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7AC8-A415-48A2-AB36-146C4E11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7EFF-9FFD-4554-943D-DCB2D083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FF44-5A09-41AF-8B0C-0A1ADB18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DC21-E3B8-4B64-B15D-E93607E0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16A5-B8E2-4709-BBD7-C2392FC0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5CFB-23A2-44F7-921A-37164196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90FF-FB0E-405F-ABD7-D25CD509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B28E-036E-4785-BD43-B3FF4EE0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2CFE2-D6BA-4F39-9382-E6474EBE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4024B-938F-4A6F-93EC-08803418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1AF35-022B-49B8-9C5E-982D7F82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94B01-426B-4861-A738-B3453D17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40C77-B8F4-445B-98E9-A2DD9017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326-F454-4F28-A41A-3767173F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F9A31-1CFE-4BAD-B57A-6113F689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C4175-1E39-409F-93DA-8E5CFDD5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FA2D5-3308-4B0D-A60D-2BC4E77C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040FB-EE47-4530-B373-8BBCAA9B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3D6EF-794D-4CDC-AB38-58B7C967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056BF-AF90-4808-878D-47E7DDAC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401C2-ED16-4E3D-B2ED-0174CA36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35E51-4D5E-40C5-9DE6-FF104450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6138F-01CF-4A7F-A8BF-3A71ACC3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18CFE-1B72-43F8-9C59-70D39B2A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5E11-93D5-4865-A713-E917DEB5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61CD7-3965-4B5C-AC47-39CF910E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3B866-653F-4742-B286-83E76241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B6341-AD2C-475D-950B-278445BE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FCB9C-5221-462C-A96F-343AF8ED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0CBE1-6EC2-4257-9617-9E770443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5846B-B3A9-466E-962E-1D47ACD6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77CE3-C8C3-4900-91A8-3CCBD8D8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2AA94-8CBB-4AFF-848E-AF8B562C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D7350-C020-431D-B492-8AFC7052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04062-ED17-4263-972F-245E6FA2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BC85-8D92-46D4-99BD-05356343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24F7B-89DC-4223-8A50-8C9E3491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872A8-1168-40CC-AA6D-910CA8FA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EF38F-45DB-47B2-AFBC-18429B38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EF7B2-3E5F-4B28-8AF1-9DA17E4C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ABF0E-B647-4DCA-ACEF-B145AF0F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92633-66FD-493E-B1D6-2FC5358A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8CE03-BE93-4185-991B-D0BB8FC9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63557-B18C-4BC3-A3F4-4DC5821E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3B4C4-1942-4B6B-997E-657B6745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06399-7654-4FB7-8104-A73C87C7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59A9-E8A9-48E4-A469-B50F9860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4E8F7-206D-47E3-8DFD-A78B8BE6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9920A-5666-4111-AD66-4FA2B7F2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1B2BD-026F-4982-8002-3508CDBD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31D26-913A-4551-9D90-9378E8AF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C2BA0-AD16-4A08-8CDD-ADBDC956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6CCF4-3A33-4737-AA8D-D06BB249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545F1-8F78-4006-A319-D89F53B8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84BF9-5D4D-46C1-BBE5-EF05CCE0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995A3-7A00-4D70-BEDC-325CC3B2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7600F-D59E-4D59-AF56-47828F25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3AB-A33F-4700-90F5-3EF24D6C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655F3-7104-4983-92DC-FB8EEFF6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09F54-E1F2-4102-BE6A-0D23E4CB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06629-ECDD-474F-A824-826EF55A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A32D9-E5AA-474F-AF43-AE192A35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7D316-1AD1-4BB4-84C3-EB2B0037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6A0AF-A05A-4571-A869-3428EDC7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9AE8D-6680-441D-A434-23B11970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01DF1-BDF8-4C6E-9B1B-E60DB89C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87C47-C33C-4694-9334-BE471020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5866F-7B50-4094-88AB-4602FB1D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198-8701-4341-B2DF-2A2DE5F4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46F31-54EB-4A65-9812-F2F39D16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CF870-24E0-4899-A610-3858FE2C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28DB7-3695-47CC-94AD-3E97E93E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0636E-6515-4615-B0A6-34FD4E88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1D883-E4E7-42F2-986D-FADCC215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E8495-E463-4CAC-BF97-9D91BBA7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7EE5B-3166-4DC7-842B-0C3B09E4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37DBD-7E8D-4C87-8F89-F7C625D0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5E8EF-134D-4304-8E9B-77383177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15F82-31DA-419D-A999-0A7660A5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399-753D-4524-A0E0-D5C8327C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68BC1-5430-424B-8964-99912F8E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1794F-485F-4F48-B6FF-48179119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2FDBE-1D93-4C0F-95D5-EEC80B42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4196A-F99A-4629-8493-07BAA9C5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A095A-3BBE-48E0-9D0E-D72D7D06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7254A-8D33-4AFE-ABB1-F711BDF1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AC2C6-25EA-4C5E-BBAC-80BB59B4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4ED4-B729-4467-8F6E-92E916EF0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D391-5452-4B1A-8A06-2D474799334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714D-6420-44FD-96DD-732513532AC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D3CB-6943-46FC-9690-6B0FA8D2B7B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DCD5-F428-46A2-976F-0B1F7CCA69B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F7C1-D763-4B17-9E7C-1E6C7AB5238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FDD4-3381-4323-8444-40E5ED4587F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720B-7366-4886-B9F4-CED7EF9F532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95280" y="12189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ots List #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nior Vocabul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hecker dir="vert"/>
    <p:sndAc>
      <p:stSnd>
        <p:snd r:embed="rId2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ut-, Auth-, Auto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f, by, or for oneself; self propell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tops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thor 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= one who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tobiograph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tomobi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tocracy/ autocr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6" descr="autobiography.jpg"/>
          <p:cNvPicPr/>
          <p:nvPr/>
        </p:nvPicPr>
        <p:blipFill>
          <a:blip r:embed="rId2"/>
          <a:stretch/>
        </p:blipFill>
        <p:spPr>
          <a:xfrm>
            <a:off x="3505320" y="4495680"/>
            <a:ext cx="1218960" cy="18957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automobile.jpg"/>
          <p:cNvPicPr/>
          <p:nvPr/>
        </p:nvPicPr>
        <p:blipFill>
          <a:blip r:embed="rId3"/>
          <a:stretch/>
        </p:blipFill>
        <p:spPr>
          <a:xfrm>
            <a:off x="6629400" y="449568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author.jpg"/>
          <p:cNvPicPr/>
          <p:nvPr/>
        </p:nvPicPr>
        <p:blipFill>
          <a:blip r:embed="rId4"/>
          <a:stretch/>
        </p:blipFill>
        <p:spPr>
          <a:xfrm>
            <a:off x="1295280" y="3200400"/>
            <a:ext cx="1381320" cy="26668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authorr.jpg"/>
          <p:cNvPicPr/>
          <p:nvPr/>
        </p:nvPicPr>
        <p:blipFill>
          <a:blip r:embed="rId5"/>
          <a:stretch/>
        </p:blipFill>
        <p:spPr>
          <a:xfrm>
            <a:off x="7391520" y="228600"/>
            <a:ext cx="1314360" cy="1600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6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i-, Bin-, Bis-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066320" y="114264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wo; twice; doub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871520" y="1371600"/>
            <a:ext cx="381492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annual 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annu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= year or year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camer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centenni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enni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gam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lingual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l=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uffix meaning of or pertaining to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nocula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ped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d/ped=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et; foot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pla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sect 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sec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= to cut; divid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Billions: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,000,000,000; 1000 mill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8" name="Picture 6" descr="bigamy.jpg"/>
          <p:cNvPicPr/>
          <p:nvPr/>
        </p:nvPicPr>
        <p:blipFill>
          <a:blip r:embed="rId2"/>
          <a:stretch/>
        </p:blipFill>
        <p:spPr>
          <a:xfrm>
            <a:off x="1143000" y="1981080"/>
            <a:ext cx="182880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bilingual.jpg"/>
          <p:cNvPicPr/>
          <p:nvPr/>
        </p:nvPicPr>
        <p:blipFill>
          <a:blip r:embed="rId3"/>
          <a:stretch/>
        </p:blipFill>
        <p:spPr>
          <a:xfrm>
            <a:off x="3429000" y="2590920"/>
            <a:ext cx="1790640" cy="1676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bilinguall.jpg"/>
          <p:cNvPicPr/>
          <p:nvPr/>
        </p:nvPicPr>
        <p:blipFill>
          <a:blip r:embed="rId4"/>
          <a:stretch/>
        </p:blipFill>
        <p:spPr>
          <a:xfrm>
            <a:off x="1066680" y="4572000"/>
            <a:ext cx="2438640" cy="1143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9" descr="binocular.jpg"/>
          <p:cNvPicPr/>
          <p:nvPr/>
        </p:nvPicPr>
        <p:blipFill>
          <a:blip r:embed="rId5"/>
          <a:stretch/>
        </p:blipFill>
        <p:spPr>
          <a:xfrm>
            <a:off x="3733920" y="5867280"/>
            <a:ext cx="1285920" cy="800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0" descr="biplane.jpg"/>
          <p:cNvPicPr/>
          <p:nvPr/>
        </p:nvPicPr>
        <p:blipFill>
          <a:blip r:embed="rId6"/>
          <a:stretch/>
        </p:blipFill>
        <p:spPr>
          <a:xfrm>
            <a:off x="7343640" y="0"/>
            <a:ext cx="1800360" cy="1447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7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i-, Bio-, Biou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fe; liv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ops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ography 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rap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y= something that is writte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olo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mphibio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tibioti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utobiograph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Ambi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refix meaning bot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6" name="Picture 6" descr="biography.jpg"/>
          <p:cNvPicPr/>
          <p:nvPr/>
        </p:nvPicPr>
        <p:blipFill>
          <a:blip r:embed="rId2"/>
          <a:stretch/>
        </p:blipFill>
        <p:spPr>
          <a:xfrm>
            <a:off x="7391520" y="228600"/>
            <a:ext cx="1352520" cy="15238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biology.jpg"/>
          <p:cNvPicPr/>
          <p:nvPr/>
        </p:nvPicPr>
        <p:blipFill>
          <a:blip r:embed="rId3"/>
          <a:stretch/>
        </p:blipFill>
        <p:spPr>
          <a:xfrm>
            <a:off x="1143000" y="4724280"/>
            <a:ext cx="2438280" cy="2133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amphibious.jpg"/>
          <p:cNvPicPr/>
          <p:nvPr/>
        </p:nvPicPr>
        <p:blipFill>
          <a:blip r:embed="rId4"/>
          <a:stretch/>
        </p:blipFill>
        <p:spPr>
          <a:xfrm>
            <a:off x="2971800" y="2362320"/>
            <a:ext cx="1600200" cy="17524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9" descr="amphibiouss.jpg"/>
          <p:cNvPicPr/>
          <p:nvPr/>
        </p:nvPicPr>
        <p:blipFill>
          <a:blip r:embed="rId5"/>
          <a:stretch/>
        </p:blipFill>
        <p:spPr>
          <a:xfrm>
            <a:off x="7391520" y="3581280"/>
            <a:ext cx="1523880" cy="1609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6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1-22T15:11:17Z</dcterms:modified>
  <cp:revision>25</cp:revision>
  <dc:subject/>
  <dc:title>Roots List #1</dc:title>
</cp:coreProperties>
</file>